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681-6312-4FE3-BA78-B67F6598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5E2-7B1B-45B6-A1B5-6844D036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522-7383-47B7-BC19-D7500B87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392-D470-42C7-8501-215AAAF7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DBE-1FE4-44A5-B11A-E5EEC711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0EF-F8FB-4CB1-9315-90DAED5F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8B1-10FE-4435-BF5C-E49767BE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2D6-6BEC-46E3-BFE2-B575F3AA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883-60D2-49FC-A7B9-54810DDA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6D3-D3BD-492A-B4FB-82F30C18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B34-6876-4B67-8A64-DD497515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150-E290-4F5F-B6D1-441BEA05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17A6-21F8-40DF-BEA9-7F842F029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Ebenezer 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Darkness was cheap, and scrooge like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R.i.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a humble Scro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op Hallo Whoop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I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Ken Robinson</cp:lastModifiedBy>
  <dcterms:modified xsi:type="dcterms:W3CDTF">2011-12-02T12:41:17Z</dcterms:modified>
  <cp:revision>8</cp:revision>
  <dc:subject/>
  <dc:title>Slide 1</dc:title>
</cp:coreProperties>
</file>